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F42C-12E3-42F7-A35A-4E3CB3202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26C8-7BC1-4389-A0A3-A7E8783AD2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56B8-CE0C-4FBA-B61F-8512A9AD65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3310-3AB2-4A2B-B2F5-99A55A8BB1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B91D-42A9-41E5-A6D7-EB6BB06B78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F91C-655B-45A7-B4DA-CF8FEC640C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72CE-D7F4-494E-A7B4-84243DF95A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C2E4-6F82-4DE9-8179-EEB8A8B47B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0945-29AD-45A6-8BE8-44AC3197C2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B165-249D-4CC3-9E16-50C4151149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3803-7C85-4B4A-8765-0EEFEB87F5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5F0C-55E4-45FB-8E05-52D57E03C3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A352-DF7E-4176-A759-3D8B63F869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08B8-8FA3-42B7-A442-DE91EF5E91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EA78-05DD-4BBC-B9D6-E07236DE5A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B528-8967-4F69-97F1-997E610D62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5FD4-BCC1-47D3-A38A-02E80B2CC2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2C80-069C-42F8-B18A-1A5522B7A6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1923-B907-4721-8B22-29B997E9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3D2A-6B35-47DD-BD11-CFAD2D42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7D96-41B7-4A50-A362-E0D698BD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ECDB-D90D-4A1B-9E62-63D9EE1E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6D6B-F4EB-48F7-8CF6-3704989D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8055-E274-4D22-A929-7801293F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2721-C46A-42D5-BD5C-386326E2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22AC-22B5-46A0-A995-00BF17D3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CD10-43E1-4F3C-8714-77C56454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4938-7ABC-4ED3-B879-6E5CC7CF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08CE-17A0-4156-AB5F-5B466A21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D700-50CB-450F-9557-1E4E9F3A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FB9E-B0A7-48EB-A888-7ADF9A9E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5019-C342-42A9-A923-F3B709D9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D680-F8D3-4D54-8783-21294079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21B0-6281-4458-9EFD-8E7CFCEFE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3E20-50CE-40F9-A821-45C94424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8CED-775B-457B-B381-A5F2DA9A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9EB-2B2D-4CF5-9E25-DC998858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074A-060C-4E97-88C7-CD5D1A5E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7498-D54D-41BA-BDDC-1E87FF12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210E-4BD7-4CC6-9510-0DE276FB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BB3E-7DE1-4904-B57C-055E33AC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AB70-BA22-4969-A206-D7678499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2B24-59AC-4B88-9A92-42DD9E39E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7B67-84EF-48A9-BC83-4203EC3C2C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The World Is Not Fl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ase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 7, Kiley Middle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W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e WANT to kn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does food go after we eat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food turn into little particles in your digestive syst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es food go into your cell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es the digestive system know what nutrients it need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ass Discussion and Student Respons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confusion regarding solid waste and liquid waste eli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usion with where and how chemical and mechanical digestion occ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or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d travels from the stomach to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iva in mouth vs. mucus lining in stom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did not mention the tongue as part of digestiv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usion with trachea and esophag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Continu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on to Circulatory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el diagram con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 sections or enlarged sections difficult for them to conceptual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describing the roles of simple structures like mouth, tongue, teeth in the digestive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connection with absorption to cells, but they were able to tell me how cells get ener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Would You Do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Picture 5" descr="character_1"/>
          <p:cNvPicPr/>
          <p:nvPr/>
        </p:nvPicPr>
        <p:blipFill>
          <a:blip r:embed="rId1"/>
          <a:stretch/>
        </p:blipFill>
        <p:spPr>
          <a:xfrm>
            <a:off x="2286000" y="1981080"/>
            <a:ext cx="4952880" cy="42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eaching Strateg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WL ch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age with Discovery Activity – How can you speed up digestion. Demo with sugar cub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ground information from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ore- Color Code Digestive System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bel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ain in own words how each of the 11 focus structures aid in diges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ain what the digestive system does and the functions of each digestive org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ore by creating Food Flight Post Cards – a trip through diges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each others’ understanding with Food Flight Post Cards and present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anges In Instru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of previously taught information as we were learning curren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cop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gram interpre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 s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cells get their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ce between organs and organel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on on surface area – vi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 of Coloring and Labeling dia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label dia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 of Food Flight Post C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flec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ss assumptions on my part regarding their understanding of terminology, for example: absorption, mechanical, surface a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need to find ways to encourage the students to make connections, for example: how cells get their energy, that chemical and mechanical digestion don’t just occur one time, etc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may not only have misconceptions about what is currently being taught, but they may also have misconceptions about previously taught mater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Nex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rticipa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e 7 Kiley Middle School Students – A small class of hardworking average to low ability learners. They have a difficult time making connections, many have just recently come from a bilingual classro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hele Partyka- I have taught science for approximately 18 years, most at the 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rade lev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y Saunders – Kiley Middle School 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miting Facto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931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rt time for completing of Human Body Un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ce class is every other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have limited background knowledge in 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IGESTIVE SYSTEM PROBE</a:t>
            </a:r>
            <a:r>
              <a:rPr b="1" lang="en-US" sz="1400" spc="-1" strike="noStrike">
                <a:solidFill>
                  <a:srgbClr val="ffffb7"/>
                </a:solidFill>
                <a:latin typeface="Arial Black"/>
              </a:rPr>
              <a:t> Elicit prior knowledge, conceptions, and understandings</a:t>
            </a: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x friends were talking about the function of the digestive system. This is what they said that the main function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a: “to release energy from foo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ny: “to help us breath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sha: to break food down into molecules that can be absorbed by cell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riett: to break food down in the stomach into small pieces of food that can be used by the body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dd: to carry bits of food and nutrients to all the different parts of our body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tis: to store food so that we can get energy when we need i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Probe Was Administer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 – Pair – Sh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tudent wrote their own reasons why they agreed with the student they ch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tudent explained their rea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discussion regarding their choices and the reason for their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do you think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student do you most agree wi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your thin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your ideas about the main function of the digestive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A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 students were given the pre-tes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d – 11 v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sha- 2 votes (one of the 2 had als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ted for Tod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riett- 1 v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Underlying Them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sha knows what she is saying, it is the right ans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don’t like Sasha, so I am not choosing her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d is right becau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how you get energy to stay alive and do stu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od needs to be in little bits so you don’t carry big food a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helps your cells and body get nutr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out nutrients we die and we are not heal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WL Char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e Know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we digest it goes to our stomach and it goes down and then we poop it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need nutrients in our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ve to chew our food so it turns into molec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w so food can go in your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gives you nutr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separates what we need from what we don’t n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breaks food down into molecules to be absorbed by cells (1 pers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3:47:58Z</dcterms:created>
  <dc:creator>Educational User</dc:creator>
  <dc:description/>
  <dc:language>en-US</dc:language>
  <cp:lastModifiedBy>scstaff</cp:lastModifiedBy>
  <dcterms:modified xsi:type="dcterms:W3CDTF">2010-01-22T20:45:00Z</dcterms:modified>
  <cp:revision>3</cp:revision>
  <dc:subject/>
  <dc:title>Slide 1</dc:title>
</cp:coreProperties>
</file>